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56E8-34EA-4632-ACC0-5CD3C2FB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A7AC-5DFD-45AC-9667-64183015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B1C6-04A1-4DD4-9331-68C06A1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716A-F770-4C46-B328-99868A69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0B0-9A4A-4E07-B8D7-524C27DD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9B41-B7B8-42FC-8EA5-EF1D648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6C04-057E-4864-AA60-6F387A2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4D9B-13FA-4770-8E7F-364ED38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C45-0BC1-42B4-9602-BDFDEC69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23C5-5677-4D19-B904-2B404F40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7E2-F1FE-4670-9FD9-A7CC175B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C63B-EB94-43E7-B37B-1807323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256B-7BE2-4E1F-9D62-FBA50BC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2BD-7A87-4CCB-98A9-677CAF6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FC34-7899-4E81-B5F8-93CBC4BC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414-17FB-4669-B80A-5C768B62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D750-19D2-4149-93DD-8386434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D956-29E7-415D-BEA2-0EC8C05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0775-DF4B-47B7-9234-727FEA2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D343-53C1-492D-93AF-5425AE2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B6C7-C257-4803-96B5-FEE31E5A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70A6-2904-4AED-AB6F-37F9F42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D0D3-7EB7-486A-98A8-2EA8D5B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7BAE-FACA-46A3-97A1-9BEA8AF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DC2-A7A0-4833-8311-9425C1AA98AC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739-CBF7-4859-98F3-0F62F303439F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4A6E-78CD-4280-9BB8-B5A777301CC2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163-689F-4E5A-8452-046BFB8FE913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Übersicht Voranschla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Aufwand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222‘9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418‘2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Mehr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195‘3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CACE-01E9-453E-94A7-3BDEE06E8F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verwendun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700280"/>
          <a:ext cx="72741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274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0644-527F-4C3F-8732-B3B0BA404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herkunft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701720"/>
          <a:ext cx="7129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1720"/>
                    <a:ext cx="7129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3C81-8DB8-4F6A-9022-22BBC8F79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3300"/>
                </a:solidFill>
                <a:latin typeface="Arial"/>
              </a:rPr>
              <a:t>Laufende Rechnungen 2001 - 2007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3284640"/>
          <a:ext cx="2890800" cy="214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28908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25760"/>
          <a:ext cx="7240680" cy="444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25760"/>
                    <a:ext cx="724068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3CA6-1485-4B42-AC42-95F7E402EA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Steuereinnahmen - Steuerfu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9880" y="1819440"/>
          <a:ext cx="719604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819440"/>
                    <a:ext cx="71960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2570-DBEC-405B-BBDB-C172F09DF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0:58Z</dcterms:created>
  <dc:creator>Walter Widmer</dc:creator>
  <dc:description/>
  <dc:language>en-US</dc:language>
  <cp:lastModifiedBy>Martina</cp:lastModifiedBy>
  <cp:lastPrinted>2003-09-16T13:25:20Z</cp:lastPrinted>
  <dcterms:modified xsi:type="dcterms:W3CDTF">2006-12-07T07:22:35Z</dcterms:modified>
  <cp:revision>71</cp:revision>
  <dc:subject>Budget 2006</dc:subject>
  <dc:title>Gemeindeversammlung 23.11.2005</dc:title>
</cp:coreProperties>
</file>