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B554-DD59-4851-93D1-F59F4F38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70D0-27AA-4552-B915-5367637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1BA0-FF43-494C-BC8D-B7F13EC6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BE4C-1232-4356-9873-CA49A0E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9F5A-F7DB-49DE-82E2-40670B89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37B5-D675-4EDD-8CD7-123A619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F428-AAE6-47B9-9CB3-D37ECE76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D11-75A0-4130-AD53-43E6258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C762-5241-4923-B0B0-6A0C993E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3F4-2D8D-49B7-8F68-AC34C482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7CFB-651A-4855-8E46-043DF5ED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342E-424A-4F48-BD2E-85B118B7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E708-4D0B-4534-8E61-0FCAC56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F05-E509-44E2-A311-3F53BEF1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BFD0-BE49-42C7-B81C-98C2AD4F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5A8-80E6-4F56-AB37-DC92C328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4CF1-BE1D-4E13-A603-54305E50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CC77-71BD-4B19-BBAB-1E97EF4F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E0C3-E775-4ECF-81EF-5560438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8E89-FDAA-4D33-91D6-0F0374B7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5450-6238-4AE6-998F-1430B331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2642-2B52-4B56-A00A-AFE6340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61E1-BC41-4F00-9113-1086167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8CE2-4514-460F-845C-829ED0C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81C3-E79B-4DB9-ACF9-A08239790982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F5FA-73B2-431C-97EF-BF71990AE860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0428-895D-4821-B68A-8212CA853B01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4702-DE61-4338-A29E-EA33E4E20380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Übersicht Voranschla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Aufwand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222‘9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418‘2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Mehr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195‘3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8F55-C174-4062-9298-89C674017A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verwendun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1700280"/>
          <a:ext cx="72741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7274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6B96-4D44-443F-AAE7-EBB518CB58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herkunft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1701720"/>
          <a:ext cx="712980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1720"/>
                    <a:ext cx="712980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13C6-98A2-459C-B10F-3C0FDD166B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3300"/>
                </a:solidFill>
                <a:latin typeface="Arial"/>
              </a:rPr>
              <a:t>Laufende Rechnungen 2001 - 2007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3284640"/>
          <a:ext cx="2890800" cy="214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284640"/>
                    <a:ext cx="28908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25760"/>
          <a:ext cx="7240680" cy="444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25760"/>
                    <a:ext cx="724068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9DA96-9305-4F07-8A7C-F346397BD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Steuereinnahmen - Steuerfu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9880" y="1819440"/>
          <a:ext cx="719604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819440"/>
                    <a:ext cx="719604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971B-99CA-4611-A9C7-08890A8AB5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0:58Z</dcterms:created>
  <dc:creator>Walter Widmer</dc:creator>
  <dc:description/>
  <dc:language>en-US</dc:language>
  <cp:lastModifiedBy>Martina</cp:lastModifiedBy>
  <cp:lastPrinted>2003-09-16T13:25:20Z</cp:lastPrinted>
  <dcterms:modified xsi:type="dcterms:W3CDTF">2006-12-07T07:22:35Z</dcterms:modified>
  <cp:revision>71</cp:revision>
  <dc:subject>Budget 2006</dc:subject>
  <dc:title>Gemeindeversammlung 23.11.2005</dc:title>
</cp:coreProperties>
</file>